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3.gif" ContentType="image/gif"/>
  <Override PartName="/ppt/media/image11.gif" ContentType="image/gif"/>
  <Override PartName="/ppt/media/image9.gif" ContentType="image/gif"/>
  <Override PartName="/ppt/media/image6.wmf" ContentType="image/x-wmf"/>
  <Override PartName="/ppt/media/image17.gif" ContentType="image/gif"/>
  <Override PartName="/ppt/media/image2.wmf" ContentType="image/x-wmf"/>
  <Override PartName="/ppt/media/image16.gif" ContentType="image/gif"/>
  <Override PartName="/ppt/media/image1.wmf" ContentType="image/x-wmf"/>
  <Override PartName="/ppt/media/image15.gif" ContentType="image/gif"/>
  <Override PartName="/ppt/media/image14.gif" ContentType="image/gif"/>
  <Override PartName="/ppt/media/image3.wmf" ContentType="image/x-wmf"/>
  <Override PartName="/ppt/media/image4.gif" ContentType="image/gif"/>
  <Override PartName="/ppt/media/image7.wmf" ContentType="image/x-wmf"/>
  <Override PartName="/ppt/media/image12.wmf" ContentType="image/x-wmf"/>
  <Override PartName="/ppt/media/image5.gif" ContentType="image/gif"/>
  <Override PartName="/ppt/media/image8.wmf" ContentType="image/x-wmf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50A7-FC2E-4D3E-BB45-F7A9F2558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ADEA-298F-4D96-8803-7A90C5EC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114D-E460-4B6C-A228-074654B83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213F-F169-4F8A-8B0D-7E55D9A78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0142-1AD8-45A0-9BCB-06C5207F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FF72-2EE7-4FDD-A79C-29A04186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8959-C149-4651-82CD-E120CE1E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BDF1-8835-4BF4-BACB-A28A98FC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6817-80C1-4395-8860-2B1A89CA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1A26-E101-40C5-87E3-3E7F1EE3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D510-5FDA-4028-80E0-294603ED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7ED9-05E0-4D11-8B93-6A797AF1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2DCB-4A67-4AEC-8F3A-3E15509E6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physicsclassroom.com/Class/circles/circtoc.html" TargetMode="External"/><Relationship Id="rId2" Type="http://schemas.openxmlformats.org/officeDocument/2006/relationships/hyperlink" Target="http://www.mcasco.com/p1cmot.html" TargetMode="External"/><Relationship Id="rId3" Type="http://schemas.openxmlformats.org/officeDocument/2006/relationships/hyperlink" Target="http://id.mind.net/~zona/mstm/physics/mechanics/curvedMotion/circularMotion/introduction/circle1.html" TargetMode="External"/><Relationship Id="rId4" Type="http://schemas.openxmlformats.org/officeDocument/2006/relationships/hyperlink" Target="http://www.physicsclassroom.com/Class/circles/U6L1a.html" TargetMode="External"/><Relationship Id="rId5" Type="http://schemas.openxmlformats.org/officeDocument/2006/relationships/hyperlink" Target="http://carini.physics.indiana.edu/E105/circular.html" TargetMode="External"/><Relationship Id="rId6" Type="http://schemas.openxmlformats.org/officeDocument/2006/relationships/hyperlink" Target="http://www.phy.ntnu.edu.tw/java/projectileOrbit/projectileOrbit.html" TargetMode="External"/><Relationship Id="rId7" Type="http://schemas.openxmlformats.org/officeDocument/2006/relationships/hyperlink" Target="http://www.phy.ntnu.edu.tw/java/circularMotion/circular3D_e.html" TargetMode="External"/><Relationship Id="rId8" Type="http://schemas.openxmlformats.org/officeDocument/2006/relationships/hyperlink" Target="http://www.phy.ntnu.edu.tw/java/shm/shm.html" TargetMode="External"/><Relationship Id="rId9" Type="http://schemas.openxmlformats.org/officeDocument/2006/relationships/hyperlink" Target="http://rubble.ultralab.net/simulations/nc_explore.htm" TargetMode="External"/><Relationship Id="rId10" Type="http://schemas.openxmlformats.org/officeDocument/2006/relationships/image" Target="../media/image16.gi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chool-for-champions.com/science/periodic.htm" TargetMode="External"/><Relationship Id="rId2" Type="http://schemas.openxmlformats.org/officeDocument/2006/relationships/hyperlink" Target="http://www.calacademy.org/products/pendulum/" TargetMode="External"/><Relationship Id="rId3" Type="http://schemas.openxmlformats.org/officeDocument/2006/relationships/hyperlink" Target="http://scienceworld.wolfram.com/physics/Pendulum.html" TargetMode="External"/><Relationship Id="rId4" Type="http://schemas.openxmlformats.org/officeDocument/2006/relationships/hyperlink" Target="http://hyperphysics.phy-astr.gsu.edu/hbase/sound/sound.html" TargetMode="External"/><Relationship Id="rId5" Type="http://schemas.openxmlformats.org/officeDocument/2006/relationships/hyperlink" Target="http://www.exploratorium.com/xref/phenomena/periodic_motion.html" TargetMode="External"/><Relationship Id="rId6" Type="http://schemas.openxmlformats.org/officeDocument/2006/relationships/hyperlink" Target="http://www.msu.edu/user/brechtjo/physics/pendulum/pendulum.html" TargetMode="External"/><Relationship Id="rId7" Type="http://schemas.openxmlformats.org/officeDocument/2006/relationships/hyperlink" Target="http://www.geocities.com/ResearchTriangle/Lab/7716/VAPPendulum.html" TargetMode="External"/><Relationship Id="rId8" Type="http://schemas.openxmlformats.org/officeDocument/2006/relationships/hyperlink" Target="http://www.walter-fendt.de/ph11e/pendulum.htm" TargetMode="External"/><Relationship Id="rId9" Type="http://schemas.openxmlformats.org/officeDocument/2006/relationships/hyperlink" Target="http://monet.physik.unibas.ch/~elmer/pendulum/upend.htm" TargetMode="External"/><Relationship Id="rId10" Type="http://schemas.openxmlformats.org/officeDocument/2006/relationships/hyperlink" Target="http://www.myphysicslab.com/" TargetMode="Externa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galileo.phys.virginia.edu/classes/109N/more_stuff/Applets/ProjectileMotion/jarapplet.html" TargetMode="External"/><Relationship Id="rId2" Type="http://schemas.openxmlformats.org/officeDocument/2006/relationships/hyperlink" Target="http://www.msu.edu/user/brechtjo/physics/cannon/cannon.html" TargetMode="External"/><Relationship Id="rId3" Type="http://schemas.openxmlformats.org/officeDocument/2006/relationships/hyperlink" Target="http://www.phy.ntnu.edu.tw/java/projectile/projectile.html" TargetMode="External"/><Relationship Id="rId4" Type="http://schemas.openxmlformats.org/officeDocument/2006/relationships/hyperlink" Target="http://library.thinkquest.org/2779/Balloon.html?tqskip1=1" TargetMode="External"/><Relationship Id="rId5" Type="http://schemas.openxmlformats.org/officeDocument/2006/relationships/hyperlink" Target="http://physics.bu.edu/~duffy/java/Projectile2.html" TargetMode="External"/><Relationship Id="rId6" Type="http://schemas.openxmlformats.org/officeDocument/2006/relationships/hyperlink" Target="http://www.physicsclassroom.com/mmedia/vectors/mzng.html" TargetMode="External"/><Relationship Id="rId7" Type="http://schemas.openxmlformats.org/officeDocument/2006/relationships/image" Target="../media/image11.gif"/><Relationship Id="rId8" Type="http://schemas.openxmlformats.org/officeDocument/2006/relationships/hyperlink" Target="http://www.glenbrook.k12.il.us/gbssci/phys/Class/vectors/u3l2a.html" TargetMode="External"/><Relationship Id="rId9" Type="http://schemas.openxmlformats.org/officeDocument/2006/relationships/hyperlink" Target="http://www.physicsclassroom.com/Class/vectors/U3L2a.html" TargetMode="Externa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33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14280" y="-152280"/>
          <a:ext cx="79916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-152280"/>
                    <a:ext cx="7991640" cy="4114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99ff66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04920" y="3200400"/>
            <a:ext cx="1834920" cy="3419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421080" y="3719520"/>
            <a:ext cx="3054240" cy="2306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496200" y="4267080"/>
            <a:ext cx="2647800" cy="2206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914400" y="0"/>
            <a:ext cx="676440" cy="952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cc9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37080" y="71280"/>
            <a:ext cx="9272520" cy="19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33"/>
                </a:solidFill>
                <a:latin typeface="Comic Sans MS"/>
              </a:rPr>
              <a:t>Centripetal force and acceleration may be caused by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gravity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 - planets orbiting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friction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 - car rounding a cu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a rope or cord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 - swinging a mass on a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560" y="2311560"/>
            <a:ext cx="9091440" cy="1320480"/>
          </a:xfrm>
          <a:prstGeom prst="hexagon">
            <a:avLst>
              <a:gd name="adj" fmla="val 7522"/>
              <a:gd name="vf" fmla="val 115470"/>
            </a:avLst>
          </a:prstGeom>
          <a:solidFill>
            <a:srgbClr val="ffff00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160" y="2300400"/>
            <a:ext cx="91371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cc"/>
                </a:solidFill>
                <a:latin typeface="Comic Sans MS"/>
              </a:rPr>
              <a:t>In all cases, a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mass m</a:t>
            </a:r>
            <a:r>
              <a:rPr b="1" lang="en-US" sz="2800" spc="-1" strike="noStrike">
                <a:solidFill>
                  <a:srgbClr val="ff00cc"/>
                </a:solidFill>
                <a:latin typeface="Comic Sans MS"/>
              </a:rPr>
              <a:t> moves in a circular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cc"/>
                </a:solidFill>
                <a:latin typeface="Comic Sans MS"/>
              </a:rPr>
              <a:t>of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radius r</a:t>
            </a:r>
            <a:r>
              <a:rPr b="1" lang="en-US" sz="2800" spc="-1" strike="noStrike">
                <a:solidFill>
                  <a:srgbClr val="ff00cc"/>
                </a:solidFill>
                <a:latin typeface="Comic Sans MS"/>
              </a:rPr>
              <a:t> with a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linear speed v</a:t>
            </a:r>
            <a:r>
              <a:rPr b="1" lang="en-US" sz="2800" spc="-1" strike="noStrike">
                <a:solidFill>
                  <a:srgbClr val="ff00cc"/>
                </a:solidFill>
                <a:latin typeface="Comic Sans MS"/>
              </a:rPr>
              <a:t>. The time to 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cc"/>
                </a:solidFill>
                <a:latin typeface="Comic Sans MS"/>
              </a:rPr>
              <a:t>one complete revolution is known as the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period</a:t>
            </a:r>
            <a:r>
              <a:rPr b="1" lang="en-US" sz="2800" spc="-1" strike="noStrike">
                <a:solidFill>
                  <a:srgbClr val="ff00cc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T</a:t>
            </a:r>
            <a:r>
              <a:rPr b="1" lang="en-US" sz="2800" spc="-1" strike="noStrike">
                <a:solidFill>
                  <a:srgbClr val="ff00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16320" y="4902120"/>
            <a:ext cx="4140360" cy="1168560"/>
          </a:xfrm>
          <a:prstGeom prst="rect">
            <a:avLst/>
          </a:prstGeom>
          <a:solidFill>
            <a:srgbClr val="00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30360" y="3824280"/>
            <a:ext cx="57582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The speed v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circumference divided by th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720" y="4987800"/>
            <a:ext cx="3408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cc"/>
                </a:solidFill>
                <a:latin typeface="Comic Sans MS"/>
              </a:rPr>
              <a:t>v = 2</a:t>
            </a:r>
            <a:r>
              <a:rPr b="1" lang="en-US" sz="6000" spc="-1" strike="noStrike">
                <a:solidFill>
                  <a:srgbClr val="ff00cc"/>
                </a:solidFill>
                <a:latin typeface="Symbol"/>
                <a:ea typeface="Symbol"/>
              </a:rPr>
              <a:t></a:t>
            </a:r>
            <a:r>
              <a:rPr b="1" lang="en-US" sz="6000" spc="-1" strike="noStrike">
                <a:solidFill>
                  <a:srgbClr val="ff00cc"/>
                </a:solidFill>
                <a:latin typeface="Comic Sans MS"/>
              </a:rPr>
              <a:t>r/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Anim'n of object undergoing UCM"/>
          <p:cNvPicPr/>
          <p:nvPr/>
        </p:nvPicPr>
        <p:blipFill>
          <a:blip r:embed="rId1"/>
          <a:stretch/>
        </p:blipFill>
        <p:spPr>
          <a:xfrm>
            <a:off x="609480" y="3886200"/>
            <a:ext cx="2616480" cy="2629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Earth-06-june.gif (26112 bytes)"/>
          <p:cNvPicPr/>
          <p:nvPr/>
        </p:nvPicPr>
        <p:blipFill>
          <a:blip r:embed="rId2"/>
          <a:stretch/>
        </p:blipFill>
        <p:spPr>
          <a:xfrm>
            <a:off x="1752480" y="5029200"/>
            <a:ext cx="381240" cy="380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0000ff"/>
            </a:gs>
            <a:gs pos="100000">
              <a:srgbClr val="00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6360" y="103320"/>
            <a:ext cx="8599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The formula for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entripetal acceleration</a:t>
            </a: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 i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16120" y="863640"/>
            <a:ext cx="3835440" cy="1092240"/>
          </a:xfrm>
          <a:prstGeom prst="rect">
            <a:avLst/>
          </a:prstGeom>
          <a:solidFill>
            <a:srgbClr val="006633"/>
          </a:solidFill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93040" y="896760"/>
            <a:ext cx="305316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1" lang="en-US" sz="6000" spc="-1" strike="noStrike" baseline="-25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ff00cc"/>
                </a:solidFill>
                <a:latin typeface="Comic Sans MS"/>
              </a:rPr>
              <a:t>=</a:t>
            </a: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 v</a:t>
            </a:r>
            <a:r>
              <a:rPr b="1" lang="en-US" sz="60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6000" spc="-1" strike="noStrike">
                <a:solidFill>
                  <a:srgbClr val="ff00cc"/>
                </a:solidFill>
                <a:latin typeface="Comic Sans MS"/>
              </a:rPr>
              <a:t>/</a:t>
            </a: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17880" y="2084400"/>
            <a:ext cx="4817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and </a:t>
            </a:r>
            <a:r>
              <a:rPr b="1" lang="en-US" sz="3600" spc="-1" strike="noStrike">
                <a:solidFill>
                  <a:srgbClr val="66ff33"/>
                </a:solidFill>
                <a:latin typeface="Times New Roman"/>
              </a:rPr>
              <a:t>centripetal force</a:t>
            </a: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 i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68560" y="2844720"/>
            <a:ext cx="6883200" cy="1168560"/>
          </a:xfrm>
          <a:prstGeom prst="rect">
            <a:avLst/>
          </a:prstGeom>
          <a:solidFill>
            <a:srgbClr val="006633"/>
          </a:solidFill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96600" y="2925720"/>
            <a:ext cx="602820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33"/>
                </a:solidFill>
                <a:latin typeface="Comic Sans MS"/>
              </a:rPr>
              <a:t>F</a:t>
            </a:r>
            <a:r>
              <a:rPr b="1" lang="en-US" sz="6000" spc="-1" strike="noStrike" baseline="-25000">
                <a:solidFill>
                  <a:srgbClr val="66ff33"/>
                </a:solidFill>
                <a:latin typeface="Comic Sans MS"/>
              </a:rPr>
              <a:t>c</a:t>
            </a: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ff00cc"/>
                </a:solidFill>
                <a:latin typeface="Comic Sans MS"/>
              </a:rPr>
              <a:t>=</a:t>
            </a: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66ff33"/>
                </a:solidFill>
                <a:latin typeface="Comic Sans MS"/>
              </a:rPr>
              <a:t>m</a:t>
            </a: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1" lang="en-US" sz="6000" spc="-1" strike="noStrike" baseline="-25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ff00cc"/>
                </a:solidFill>
                <a:latin typeface="Comic Sans MS"/>
              </a:rPr>
              <a:t>=</a:t>
            </a: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66ff33"/>
                </a:solidFill>
                <a:latin typeface="Comic Sans MS"/>
              </a:rPr>
              <a:t>m</a:t>
            </a: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v</a:t>
            </a:r>
            <a:r>
              <a:rPr b="1" lang="en-US" sz="60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6000" spc="-1" strike="noStrike">
                <a:solidFill>
                  <a:srgbClr val="ff00cc"/>
                </a:solidFill>
                <a:latin typeface="Comic Sans MS"/>
              </a:rPr>
              <a:t>/</a:t>
            </a: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8520" y="4010040"/>
            <a:ext cx="7027560" cy="29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m = mass in k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v = linear velocity in m/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F</a:t>
            </a:r>
            <a:r>
              <a:rPr b="1" lang="en-US" sz="3600" spc="-1" strike="noStrike" baseline="-25000">
                <a:solidFill>
                  <a:srgbClr val="ff9900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 = centripetal force in 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r = radius of curvature in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1" lang="en-US" sz="3600" spc="-1" strike="noStrike" baseline="-25000">
                <a:solidFill>
                  <a:srgbClr val="ff9900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 = centripetal acceleration in m/s</a:t>
            </a:r>
            <a:r>
              <a:rPr b="1" lang="en-US" sz="3600" spc="-1" strike="noStrike" baseline="30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G Forces</a:t>
            </a:r>
            <a:r>
              <a:rPr b="0" lang="en-US" sz="3200" spc="-1" strike="noStrike">
                <a:solidFill>
                  <a:srgbClr val="66ff66"/>
                </a:solidFill>
                <a:latin typeface="Comic Sans MS"/>
              </a:rPr>
              <a:t> are sometimes confused with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ulling G’s</a:t>
            </a:r>
            <a:r>
              <a:rPr b="0" lang="en-US" sz="3200" spc="-1" strike="noStrike">
                <a:solidFill>
                  <a:srgbClr val="66ff66"/>
                </a:solidFill>
                <a:latin typeface="Comic Sans MS"/>
              </a:rPr>
              <a:t>. G’s are multiples of the acceleration of grav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8487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ling 4 G’s really means having a centripetal acceleration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 x 9.8 = 39.2 m/s/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G force"/>
          <p:cNvPicPr/>
          <p:nvPr/>
        </p:nvPicPr>
        <p:blipFill>
          <a:blip r:embed="rId1"/>
          <a:stretch/>
        </p:blipFill>
        <p:spPr>
          <a:xfrm>
            <a:off x="2819520" y="1981080"/>
            <a:ext cx="339552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15040" y="2286000"/>
            <a:ext cx="751428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Learn more about circular 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at these lin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link1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link2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link3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4"/>
              </a:rPr>
              <a:t>link4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5"/>
              </a:rPr>
              <a:t>link5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View circular motion simulations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6"/>
              </a:rPr>
              <a:t>link1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7"/>
              </a:rPr>
              <a:t>link2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8"/>
              </a:rPr>
              <a:t>link3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9"/>
              </a:rPr>
              <a:t>link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Earth-31-june.gif (92789 bytes)"/>
          <p:cNvPicPr/>
          <p:nvPr/>
        </p:nvPicPr>
        <p:blipFill>
          <a:blip r:embed="rId10"/>
          <a:stretch/>
        </p:blipFill>
        <p:spPr>
          <a:xfrm>
            <a:off x="3182760" y="838080"/>
            <a:ext cx="2776680" cy="919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ff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 rot="5880000">
            <a:off x="-4449600" y="-5557680"/>
            <a:ext cx="10750680" cy="11432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532" y="1646"/>
                </a:moveTo>
                <a:arcTo wR="10800" hR="10800" stAng="-3476760" swAng="3476760"/>
                <a:lnTo>
                  <a:pt x="10800" y="10800"/>
                </a:lnTo>
                <a:close/>
              </a:path>
              <a:path fill="none" w="21600" h="21600">
                <a:moveTo>
                  <a:pt x="16532" y="1646"/>
                </a:moveTo>
                <a:arcTo wR="10800" hR="10800" stAng="-3476760" swAng="3476760"/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20220000">
            <a:off x="1549440" y="101520"/>
            <a:ext cx="635040" cy="4521240"/>
          </a:xfrm>
          <a:prstGeom prst="rect">
            <a:avLst/>
          </a:prstGeom>
          <a:solidFill>
            <a:srgbClr val="66ff33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Serpentine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Serpentine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Serpentine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Serpentine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Serpentine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Serpentine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Serpentine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95240" y="82440"/>
            <a:ext cx="292320" cy="292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16160" y="4197240"/>
            <a:ext cx="1663560" cy="1663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00840" y="455760"/>
            <a:ext cx="51472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any motion in wh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the path of the o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repeats itself in eq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time interv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07200" y="5151600"/>
            <a:ext cx="45651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simple pend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is a great exampl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this type of mo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400800" y="2971800"/>
            <a:ext cx="178128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55600" y="150840"/>
            <a:ext cx="86328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cc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period</a:t>
            </a:r>
            <a:r>
              <a:rPr b="1" lang="en-US" sz="3600" spc="-1" strike="noStrike">
                <a:solidFill>
                  <a:srgbClr val="ff00cc"/>
                </a:solidFill>
                <a:latin typeface="Comic Sans MS"/>
              </a:rPr>
              <a:t>, 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T</a:t>
            </a:r>
            <a:r>
              <a:rPr b="1" lang="en-US" sz="3600" spc="-1" strike="noStrike">
                <a:solidFill>
                  <a:srgbClr val="ff00cc"/>
                </a:solidFill>
                <a:latin typeface="Comic Sans MS"/>
              </a:rPr>
              <a:t>, of a simple pend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cc"/>
                </a:solidFill>
                <a:latin typeface="Comic Sans MS"/>
              </a:rPr>
              <a:t>(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time needed for one complete cycle</a:t>
            </a:r>
            <a:r>
              <a:rPr b="1" lang="en-US" sz="3600" spc="-1" strike="noStrike">
                <a:solidFill>
                  <a:srgbClr val="ff00cc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cc"/>
                </a:solidFill>
                <a:latin typeface="Comic Sans MS"/>
              </a:rPr>
              <a:t>is approximated by the equ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09880" y="1933560"/>
            <a:ext cx="5200560" cy="3219480"/>
          </a:xfrm>
          <a:prstGeom prst="rect">
            <a:avLst/>
          </a:prstGeom>
          <a:solidFill>
            <a:srgbClr val="ffcc00"/>
          </a:soli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212920" y="2017800"/>
                <a:ext cx="4700520" cy="31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p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268200" y="5332320"/>
            <a:ext cx="87969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cc"/>
                </a:solidFill>
                <a:latin typeface="Comic Sans MS"/>
              </a:rPr>
              <a:t>where </a:t>
            </a:r>
            <a:r>
              <a:rPr b="1" lang="en-US" sz="3600" spc="-1" strike="noStrike">
                <a:solidFill>
                  <a:srgbClr val="ff0033"/>
                </a:solidFill>
                <a:latin typeface="Comic Sans MS"/>
              </a:rPr>
              <a:t>l is the length of the pend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cc"/>
                </a:solidFill>
                <a:latin typeface="Comic Sans MS"/>
              </a:rPr>
              <a:t>and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g is the acceleration of gravity</a:t>
            </a:r>
            <a:r>
              <a:rPr b="1" lang="en-US" sz="3600" spc="-1" strike="noStrike">
                <a:solidFill>
                  <a:srgbClr val="ff00cc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75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3250"/>
                            </p:stCondLst>
                            <p:childTnLst>
                              <p:par>
                                <p:cTn id="5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75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73000" y="1143000"/>
            <a:ext cx="709344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Learn more about pendulum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periodic motion at these lin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link1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link2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link3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4"/>
              </a:rPr>
              <a:t>link4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5"/>
              </a:rPr>
              <a:t>link5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View pendulum simulations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6"/>
              </a:rPr>
              <a:t>link1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7"/>
              </a:rPr>
              <a:t>link2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8"/>
              </a:rPr>
              <a:t>link3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9"/>
              </a:rPr>
              <a:t>link4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10"/>
              </a:rPr>
              <a:t>link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067680" cy="6865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362320" y="1184400"/>
            <a:ext cx="6781680" cy="10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cc"/>
                </a:solidFill>
                <a:latin typeface="Arial Black"/>
              </a:rPr>
              <a:t>Four Major Types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Arial Black"/>
              </a:rPr>
              <a:t>Two Dimensional Mo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37120" y="2425680"/>
            <a:ext cx="478584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Serpentine"/>
              </a:rPr>
              <a:t>1. </a:t>
            </a:r>
            <a:r>
              <a:rPr b="0" lang="en-US" sz="3800" spc="-1" strike="noStrike">
                <a:solidFill>
                  <a:srgbClr val="009900"/>
                </a:solidFill>
                <a:latin typeface="Serpentine"/>
              </a:rPr>
              <a:t>Projectile Mo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Serpentine"/>
              </a:rPr>
              <a:t>2. </a:t>
            </a:r>
            <a:r>
              <a:rPr b="0" lang="en-US" sz="3800" spc="-1" strike="noStrike">
                <a:solidFill>
                  <a:srgbClr val="ff0033"/>
                </a:solidFill>
                <a:latin typeface="Serpentine"/>
              </a:rPr>
              <a:t>Circular Mo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Serpentine"/>
              </a:rPr>
              <a:t>3. </a:t>
            </a:r>
            <a:r>
              <a:rPr b="0" lang="en-US" sz="3800" spc="-1" strike="noStrike">
                <a:solidFill>
                  <a:srgbClr val="ff00cc"/>
                </a:solidFill>
                <a:latin typeface="Serpentine"/>
              </a:rPr>
              <a:t>Rotational Mo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Serpentine"/>
              </a:rPr>
              <a:t>4. </a:t>
            </a:r>
            <a:r>
              <a:rPr b="0" lang="en-US" sz="3800" spc="-1" strike="noStrike">
                <a:solidFill>
                  <a:srgbClr val="3333cc"/>
                </a:solidFill>
                <a:latin typeface="Serpentine"/>
              </a:rPr>
              <a:t>Periodic Mo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57200" y="96840"/>
          <a:ext cx="8305920" cy="24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6840"/>
                    <a:ext cx="8305920" cy="2494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6320" dir="5400000" blurRad="0" rotWithShape="0">
                      <a:srgbClr val="006633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715000" y="3429000"/>
            <a:ext cx="3200400" cy="3098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kenny animated gif"/>
          <p:cNvPicPr/>
          <p:nvPr/>
        </p:nvPicPr>
        <p:blipFill>
          <a:blip r:embed="rId4"/>
          <a:stretch/>
        </p:blipFill>
        <p:spPr>
          <a:xfrm>
            <a:off x="3463920" y="3657600"/>
            <a:ext cx="2216160" cy="2276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basketball hoop"/>
          <p:cNvPicPr/>
          <p:nvPr/>
        </p:nvPicPr>
        <p:blipFill>
          <a:blip r:embed="rId5"/>
          <a:stretch/>
        </p:blipFill>
        <p:spPr>
          <a:xfrm>
            <a:off x="533520" y="3429000"/>
            <a:ext cx="1349280" cy="2933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8720" y="14400"/>
            <a:ext cx="9211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Comic Sans MS"/>
              </a:rPr>
              <a:t>Projectile motion problems are best solv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Comic Sans MS"/>
              </a:rPr>
              <a:t>treating horizontal and vertical motion separat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0200" y="966960"/>
            <a:ext cx="88473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33"/>
                </a:solidFill>
                <a:latin typeface="Minnie"/>
                <a:ea typeface="Minnie"/>
              </a:rPr>
              <a:t></a:t>
            </a:r>
            <a:r>
              <a:rPr b="1" lang="en-US" sz="3800" spc="-1" strike="noStrike">
                <a:solidFill>
                  <a:srgbClr val="ffcc00"/>
                </a:solidFill>
                <a:latin typeface="Arial Black"/>
              </a:rPr>
              <a:t>IMPORTANT</a:t>
            </a:r>
            <a:r>
              <a:rPr b="1" lang="en-US" sz="3800" spc="-1" strike="noStrike">
                <a:solidFill>
                  <a:srgbClr val="ff0033"/>
                </a:solidFill>
                <a:latin typeface="Minnie"/>
                <a:ea typeface="Minnie"/>
              </a:rPr>
              <a:t>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ffff"/>
                </a:solidFill>
                <a:latin typeface="Comic Sans MS"/>
              </a:rPr>
              <a:t>Gravity only affects vertical motion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09920" y="2589120"/>
            <a:ext cx="6127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re are two general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projectile motion situa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7800" y="4017960"/>
            <a:ext cx="6922440" cy="14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 Black"/>
              </a:rPr>
              <a:t>1. </a:t>
            </a:r>
            <a:r>
              <a:rPr b="0" lang="en-US" sz="3700" spc="-1" strike="noStrike">
                <a:solidFill>
                  <a:srgbClr val="66ff66"/>
                </a:solidFill>
                <a:latin typeface="Arial Black"/>
              </a:rPr>
              <a:t>object launched horizontally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 Black"/>
              </a:rPr>
              <a:t>2. </a:t>
            </a:r>
            <a:r>
              <a:rPr b="0" lang="en-US" sz="3700" spc="-1" strike="noStrike">
                <a:solidFill>
                  <a:srgbClr val="00ffff"/>
                </a:solidFill>
                <a:latin typeface="Arial Black"/>
              </a:rPr>
              <a:t>object launched at an angl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751040" y="46080"/>
            <a:ext cx="5814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Object Launched Horizo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78080" y="1149480"/>
            <a:ext cx="672840" cy="16635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2819520"/>
            <a:ext cx="62485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11240" y="920880"/>
            <a:ext cx="216000" cy="215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55680" y="1044720"/>
            <a:ext cx="838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1447560" y="1068480"/>
            <a:ext cx="7924320" cy="343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6" y="0"/>
                </a:moveTo>
                <a:arcTo wR="10800" hR="10800" stAng="-5401377" swAng="5468055"/>
                <a:lnTo>
                  <a:pt x="10800" y="10800"/>
                </a:lnTo>
                <a:close/>
              </a:path>
              <a:path fill="none" w="21600" h="21600">
                <a:moveTo>
                  <a:pt x="10796" y="0"/>
                </a:moveTo>
                <a:arcTo wR="10800" hR="10800" stAng="-5401377" swAng="5468055"/>
              </a:path>
            </a:pathLst>
          </a:custGeom>
          <a:noFill/>
          <a:ln cap="rnd" w="507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9360" y="547560"/>
            <a:ext cx="49536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66"/>
                </a:solidFill>
                <a:latin typeface="Times New Roman"/>
              </a:rPr>
              <a:t>v</a:t>
            </a:r>
            <a:r>
              <a:rPr b="1" lang="en-US" sz="3000" spc="-1" strike="noStrike" baseline="-25000">
                <a:solidFill>
                  <a:srgbClr val="66ff66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66ff66"/>
                </a:solidFill>
                <a:latin typeface="Times New Roman"/>
              </a:rPr>
              <a:t> = initial horizontal veloc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23800" y="2811600"/>
            <a:ext cx="36781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D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 = horizontal ran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840" y="1592280"/>
            <a:ext cx="31370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 = initial heigh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above gro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15320" y="1203480"/>
            <a:ext cx="38502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Times New Roman"/>
              </a:rPr>
              <a:t>t = total time in the a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Times New Roman"/>
              </a:rPr>
              <a:t>“</a:t>
            </a:r>
            <a:r>
              <a:rPr b="1" lang="en-US" sz="3000" spc="-1" strike="noStrike">
                <a:solidFill>
                  <a:srgbClr val="ffcc00"/>
                </a:solidFill>
                <a:latin typeface="Times New Roman"/>
              </a:rPr>
              <a:t>Hang Time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6440" y="3359160"/>
            <a:ext cx="8902800" cy="21207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2480" y="3290760"/>
            <a:ext cx="892512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Black"/>
              </a:rPr>
              <a:t>IMPORTANT F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re is no horizontal accele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re is no initial vertical velo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horizontal velocity is cons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ime is the same for both vertical and horizo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05720" y="5559480"/>
            <a:ext cx="2273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cc"/>
                </a:solidFill>
                <a:uFillTx/>
                <a:latin typeface="Comic Sans MS"/>
              </a:rPr>
              <a:t>horizo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4960" y="6094440"/>
            <a:ext cx="182664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Comic Sans MS"/>
              </a:rPr>
              <a:t>x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 = V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Comic Sans MS"/>
              </a:rPr>
              <a:t>x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95920" y="5532480"/>
            <a:ext cx="1719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cc"/>
                </a:solidFill>
                <a:uFillTx/>
                <a:latin typeface="Comic Sans MS"/>
              </a:rPr>
              <a:t>ver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74160" y="6111720"/>
            <a:ext cx="2318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D = 0.5gt</a:t>
            </a:r>
            <a:r>
              <a:rPr b="1" lang="en-US" sz="36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46720" y="-7920"/>
            <a:ext cx="5674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Object Launched at an 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1981080"/>
            <a:ext cx="5867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11400" y="1530360"/>
            <a:ext cx="444600" cy="444600"/>
          </a:xfrm>
          <a:prstGeom prst="ellipse">
            <a:avLst/>
          </a:prstGeom>
          <a:solidFill>
            <a:srgbClr val="ff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362320" y="609480"/>
            <a:ext cx="685800" cy="1138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79400" y="689040"/>
            <a:ext cx="6400440" cy="6145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99" y="4540"/>
                </a:moveTo>
                <a:arcTo wR="10800" hR="10800" stAng="-8674535" swAng="8814912"/>
                <a:lnTo>
                  <a:pt x="10800" y="10800"/>
                </a:lnTo>
                <a:close/>
              </a:path>
              <a:path fill="none" w="21600" h="21600">
                <a:moveTo>
                  <a:pt x="1999" y="4540"/>
                </a:moveTo>
                <a:arcTo wR="10800" hR="10800" stAng="-8674535" swAng="8814912"/>
              </a:path>
            </a:pathLst>
          </a:custGeom>
          <a:noFill/>
          <a:ln cap="rnd" w="507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2057400"/>
            <a:ext cx="7086600" cy="19810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240" y="471600"/>
            <a:ext cx="2882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V = initial velo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400" y="928800"/>
            <a:ext cx="255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= launch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57480" y="928800"/>
            <a:ext cx="33397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= maximum h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000" y="1968480"/>
            <a:ext cx="482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t = Hang Time = total time in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70200" y="1968480"/>
            <a:ext cx="32421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horizontal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80" y="2467080"/>
            <a:ext cx="9129600" cy="2197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4120" y="2452680"/>
            <a:ext cx="898776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Arial Black"/>
              </a:rPr>
              <a:t>IMPORTANT F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horizontal velocity is cons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t rises and falls in equal time interv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t reaches maximum height in half the total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ravity only effects the vertical mo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4602240"/>
            <a:ext cx="2446200" cy="18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horizo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V</a:t>
            </a:r>
            <a:r>
              <a:rPr b="0" lang="en-US" sz="3600" spc="-1" strike="noStrike" baseline="-25000">
                <a:solidFill>
                  <a:srgbClr val="00ffff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 = V cos</a:t>
            </a:r>
            <a:r>
              <a:rPr b="0" lang="en-US" sz="36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D</a:t>
            </a:r>
            <a:r>
              <a:rPr b="0" lang="en-US" sz="3600" spc="-1" strike="noStrike" baseline="-25000">
                <a:solidFill>
                  <a:srgbClr val="00ffff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 = v</a:t>
            </a:r>
            <a:r>
              <a:rPr b="0" lang="en-US" sz="3600" spc="-1" strike="noStrike" baseline="-25000">
                <a:solidFill>
                  <a:srgbClr val="00ffff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27680" y="4602240"/>
            <a:ext cx="3260520" cy="25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vert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V</a:t>
            </a:r>
            <a:r>
              <a:rPr b="0" lang="en-US" sz="3600" spc="-1" strike="noStrike" baseline="-25000">
                <a:solidFill>
                  <a:srgbClr val="00ffff"/>
                </a:solidFill>
                <a:latin typeface="Comic Sans MS"/>
              </a:rPr>
              <a:t>y</a:t>
            </a: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 = V sin</a:t>
            </a:r>
            <a:r>
              <a:rPr b="0" lang="en-US" sz="36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 = 0.5(0.5)V</a:t>
            </a:r>
            <a:r>
              <a:rPr b="0" lang="en-US" sz="3600" spc="-1" strike="noStrike" baseline="-25000">
                <a:solidFill>
                  <a:srgbClr val="00ffff"/>
                </a:solidFill>
                <a:latin typeface="Comic Sans MS"/>
              </a:rPr>
              <a:t>y</a:t>
            </a: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t = </a:t>
            </a:r>
            <a:r>
              <a:rPr b="0" lang="en-US" sz="3600" spc="-1" strike="noStrike">
                <a:solidFill>
                  <a:srgbClr val="00ffff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2V</a:t>
            </a:r>
            <a:r>
              <a:rPr b="0" lang="en-US" sz="3600" spc="-1" strike="noStrike" baseline="-25000">
                <a:solidFill>
                  <a:srgbClr val="00ffff"/>
                </a:solidFill>
                <a:latin typeface="Comic Sans MS"/>
              </a:rPr>
              <a:t>y</a:t>
            </a: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/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3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3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3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3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3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3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3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3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3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3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3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3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22080" y="4694400"/>
            <a:ext cx="789984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View projectile motion simulations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link1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link2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link3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4"/>
              </a:rPr>
              <a:t>link4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5"/>
              </a:rPr>
              <a:t>link5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6"/>
              </a:rPr>
              <a:t>link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vertical force acting upon a horizontally-moving object"/>
          <p:cNvPicPr/>
          <p:nvPr/>
        </p:nvPicPr>
        <p:blipFill>
          <a:blip r:embed="rId7"/>
          <a:stretch/>
        </p:blipFill>
        <p:spPr>
          <a:xfrm>
            <a:off x="1119240" y="304920"/>
            <a:ext cx="2916360" cy="4190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419720" y="793800"/>
            <a:ext cx="4495680" cy="30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Learn more about projectile 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at these lin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8"/>
              </a:rPr>
              <a:t>link1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9"/>
              </a:rPr>
              <a:t>link2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, link3, link4, link5, link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065240" y="0"/>
          <a:ext cx="71643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5240" y="0"/>
                    <a:ext cx="7164360" cy="6856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969696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546200" y="2181240"/>
            <a:ext cx="608616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Comic Sans MS"/>
              </a:rPr>
              <a:t>object moves 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Comic Sans MS"/>
              </a:rPr>
              <a:t>circular p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Comic Sans MS"/>
              </a:rPr>
              <a:t>about an </a:t>
            </a:r>
            <a:r>
              <a:rPr b="0" lang="en-US" sz="4400" spc="-1" strike="noStrike">
                <a:solidFill>
                  <a:srgbClr val="66ff33"/>
                </a:solidFill>
                <a:latin typeface="Minnie"/>
                <a:ea typeface="Minnie"/>
              </a:rPr>
              <a:t></a:t>
            </a:r>
            <a:r>
              <a:rPr b="1" lang="en-US" sz="4400" spc="-1" strike="noStrike">
                <a:solidFill>
                  <a:srgbClr val="00ffff"/>
                </a:solidFill>
                <a:latin typeface="Comic Sans MS"/>
              </a:rPr>
              <a:t>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Comic Sans MS"/>
              </a:rPr>
              <a:t>(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“revolves”</a:t>
            </a:r>
            <a:r>
              <a:rPr b="1" lang="en-US" sz="4400" spc="-1" strike="noStrike">
                <a:solidFill>
                  <a:srgbClr val="00ffff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57320" y="55440"/>
            <a:ext cx="887040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ccording to Newton’s </a:t>
            </a:r>
            <a:r>
              <a:rPr b="1" lang="en-US" sz="2800" spc="-1" strike="noStrike">
                <a:solidFill>
                  <a:srgbClr val="ff00cc"/>
                </a:solidFill>
                <a:latin typeface="Arial Black"/>
              </a:rPr>
              <a:t>First Law of Motion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bjects move in a straight line unless a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makes them turn. An external force is necess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o make an object follow a circular p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is force is called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CENTRIPETAL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(</a:t>
            </a: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i="1" lang="en-US" sz="2800" spc="-1" strike="noStrike">
                <a:solidFill>
                  <a:srgbClr val="66ff33"/>
                </a:solidFill>
                <a:latin typeface="Comic Sans MS"/>
              </a:rPr>
              <a:t>center seeking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”) </a:t>
            </a: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FORCE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1520" y="3179880"/>
            <a:ext cx="8588520" cy="36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Since 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every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unbalanced force causes a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o accelerate in the direction of that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1" lang="en-US" sz="2800" spc="-1" strike="noStrike">
                <a:solidFill>
                  <a:srgbClr val="ff00cc"/>
                </a:solidFill>
                <a:latin typeface="Comic Sans MS"/>
              </a:rPr>
              <a:t>Newton’s Second La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), a centripetal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auses a </a:t>
            </a: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CENTRIPETAL ACCELERATION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.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cceleration results from a change in direc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nd 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does not imply a change in speed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lthough speed may also chan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500"/>
                            </p:stCondLst>
                            <p:childTnLst>
                              <p:par>
                                <p:cTn id="3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98-06-10T01:42:40Z</dcterms:created>
  <dc:creator>Bryan</dc:creator>
  <dc:description/>
  <dc:language>en-US</dc:language>
  <cp:lastModifiedBy>Your User Name</cp:lastModifiedBy>
  <cp:lastPrinted>1998-08-05T01:06:16Z</cp:lastPrinted>
  <dcterms:modified xsi:type="dcterms:W3CDTF">2005-11-20T00:52:12Z</dcterms:modified>
  <cp:revision>40</cp:revision>
  <dc:subject/>
  <dc:title>No Slide Title</dc:title>
</cp:coreProperties>
</file>